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3DFD-2619-499D-B6A9-6AF443562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D6D7-D338-4772-8FCF-E541913B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11DF-D6E0-48DF-ACBF-EE9198BBC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7906-620E-40A2-8CFE-DB8153992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C63E-63D0-4D76-9548-1A0B81AA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1539-B3E3-498E-9AA1-B63AFC77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63E9-A873-45ED-9764-3CCCCB3F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E0AD-2C87-4CA1-935E-CC9E9078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AB30-4C55-43DD-BC00-7AE48539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1170-E941-48F5-B0B3-51BDDE53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AD43-8828-4035-B9C5-9DFC6A0F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14CE-D2BA-4145-B305-FF3A982E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C6BB-F9E8-4AD8-8226-1903FB75AC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6240" y="2619000"/>
            <a:ext cx="90774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paper title goes he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166840" y="4216320"/>
            <a:ext cx="51739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our name and the names of the people who have contributed to this presentation go here.</a:t>
            </a:r>
            <a:br>
              <a:rPr sz="18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The names and addresses of the associated institutions go here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30040" y="165240"/>
            <a:ext cx="869976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30040" y="1166760"/>
            <a:ext cx="8699760" cy="51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ubtitle 2"/>
          <p:cNvSpPr/>
          <p:nvPr/>
        </p:nvSpPr>
        <p:spPr>
          <a:xfrm>
            <a:off x="0" y="2874960"/>
            <a:ext cx="9144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6T07:41:13Z</dcterms:created>
  <dc:creator>super user</dc:creator>
  <dc:description/>
  <dc:language>en-US</dc:language>
  <cp:lastModifiedBy>USER</cp:lastModifiedBy>
  <dcterms:modified xsi:type="dcterms:W3CDTF">2021-03-04T10:57:44Z</dcterms:modified>
  <cp:revision>3</cp:revision>
  <dc:subject/>
  <dc:title>PowerPoint Presentation</dc:title>
</cp:coreProperties>
</file>